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trinsisches Syst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d Endstreck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troff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720" y="54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T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T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K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8320" y="54936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0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4" name=""/>
          <p:cNvCxnSpPr>
            <a:stCxn id="160" idx="3"/>
            <a:endCxn id="165" idx="1"/>
          </p:cNvCxnSpPr>
          <p:nvPr/>
        </p:nvCxnSpPr>
        <p:spPr>
          <a:xfrm>
            <a:off x="3313080" y="4080960"/>
            <a:ext cx="2689920" cy="6786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19724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8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orptio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8320" y="54936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3"/>
            <a:endCxn id="17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2" name=""/>
          <p:cNvCxnSpPr>
            <a:stCxn id="168" idx="3"/>
            <a:endCxn id="173" idx="1"/>
          </p:cNvCxnSpPr>
          <p:nvPr/>
        </p:nvCxnSpPr>
        <p:spPr>
          <a:xfrm>
            <a:off x="3313080" y="4080960"/>
            <a:ext cx="2689920" cy="6786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armbakterie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9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419724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Fettverdau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1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bakteri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9000" y="54936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armbakteri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3"/>
            <a:endCxn id="17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ysbakte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ysbakte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9000" y="54936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nthese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armbakterie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Dysbakte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Antibiotik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orex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ttverdau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2520" y="549360"/>
            <a:ext cx="77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itamin-K-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Fettverdau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8" idx="3"/>
            <a:endCxn id="191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48320" y="54936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itamin-K-Mangel &gt; 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4" idx="3"/>
            <a:endCxn id="19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6640" y="549360"/>
            <a:ext cx="649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TT ↑ &gt; intrinsisches System und Endstrecke betroffen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tamin-K-Wirkung ↓ &gt; Vitamin-K-Mangel &gt; Bildung ↓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640" y="6153480"/>
            <a:ext cx="42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insisches Syst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d Endstreck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troff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106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7" name=""/>
          <p:cNvCxnSpPr>
            <a:stCxn id="104" idx="3"/>
            <a:endCxn id="10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212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ri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3"/>
            <a:endCxn id="109" idx="1"/>
          </p:cNvCxnSpPr>
          <p:nvPr/>
        </p:nvCxnSpPr>
        <p:spPr>
          <a:xfrm flipV="1">
            <a:off x="3313080" y="2685960"/>
            <a:ext cx="2689920" cy="139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9040" y="54936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trinsisches System und Endstrecke betroff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rintherap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4960" y="549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9" name=""/>
          <p:cNvCxnSpPr>
            <a:endCxn id="11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4960" y="549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6" name=""/>
          <p:cNvCxnSpPr>
            <a:endCxn id="12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4960" y="549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74960" y="549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74960" y="549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K-Wirkung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8320" y="54936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8" name=""/>
          <p:cNvCxnSpPr>
            <a:stCxn id="144" idx="3"/>
            <a:endCxn id="149" idx="1"/>
          </p:cNvCxnSpPr>
          <p:nvPr/>
        </p:nvCxnSpPr>
        <p:spPr>
          <a:xfrm>
            <a:off x="3313080" y="4080960"/>
            <a:ext cx="2689920" cy="6786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mpetitiv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n Vitamin 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419724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itamin-K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n Vitamin 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2" idx="3"/>
            <a:endCxn id="15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5" name=""/>
          <p:cNvCxnSpPr>
            <a:stCxn id="152" idx="3"/>
            <a:endCxn id="15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erapie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umarinderiva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ttengi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040" y="549360"/>
            <a:ext cx="65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T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trinsisches System und Endstrecke betroff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amin-K-Wirk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kompetitive Hemmung von Vitamin 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00:52Z</dcterms:modified>
  <cp:revision>335</cp:revision>
  <dc:subject/>
  <dc:title>Vorstellung einer Neuheit</dc:title>
</cp:coreProperties>
</file>